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699B-5B66-4CB9-AD45-EF79762C8F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0163-D3A7-41E0-8B3B-9F7C75A216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2DC4-39FC-4E95-A80A-9AD352A3A9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17F-DC27-4227-8AD3-2BCC9BC2C6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7E5F-5CD4-4621-ABFD-430A09C750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95C-FCF4-47FF-BCA8-0899F1C4E8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2E6-D4AD-44C2-B584-7CEABDAADA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81A-B253-4BF3-9C69-46035E97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350-F755-4466-AF86-8277C27E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26799-5D59-43CE-A1DD-F72F9C8A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3D4A1-711C-46A5-A966-BB1FD4F2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B6355-2D73-4E34-B11D-2A5082F7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C1FB0-5F72-496F-BB59-28A8E96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42BCA-3493-4226-8427-6DD0EA98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8B026-B560-4FCB-ABE1-1F2859E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C3313-4741-426D-95BA-A437DF8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256A7-E83B-4394-836F-2A97236B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9DA55-3A06-43DE-8657-B92F87FC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735F2-DEF6-4198-9893-2AD32965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BB3-14C5-47FB-B78E-6E5667F3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1CE67-8455-4D54-9E19-32F0CBF7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4D8D3-BBE9-411D-AEA3-751FB491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2D3E7-0661-4DB7-8C20-AC49D11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9401B-A87C-4AED-85F6-C71E78C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8B86C-6587-4424-892F-A07558F3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291B7-115E-4901-8DD1-0900C0C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A8DC0-90DD-48B4-ADCD-262AD97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C698F-FE37-49DA-BAE3-D5308A6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822E8-15DE-4947-A5B0-EA8A8B3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37930-9A1E-4865-A1A4-92F79B6D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94C-F62F-41D9-8754-9ECFBEFE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3A8BE-B205-42A2-9841-B659A8B1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ED9FF9-BECA-47C4-B383-96BAA647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6E9328-8F04-40D8-A5C6-2059C2E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09C9F3-27EF-426F-9DDC-248F954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A4D332-D8B6-4A2C-958F-B4204CC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B7CE69-FA2D-43BE-9104-6F845B45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846612-317A-4D98-A55A-80CD012D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9B34F4-8111-4EA3-ACA1-A457A47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9F482B-C23C-45FD-B323-BF3B62A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BF15B4-75D8-4F95-9269-4918911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0732-A372-4785-89A1-A1902349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E75CB8-439B-450B-BAEC-412501D2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12ECE1-0AAA-4732-9319-387797C4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4B0795-3B25-4F98-BA23-F3D313C9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035EF-6263-4327-8F7B-C3208D78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9DB89-4970-439D-805D-359368E1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52AF-7A5D-43AD-82A2-B3B84A8B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57828-88C9-4049-BE56-1B8F17AE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075BC-F9F9-4790-A7AD-CEAED029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616F7-6FFB-4AB6-A020-7059C408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1773D-3D74-417F-8A8F-E0C3BB13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A968-1481-45AE-AF75-23CD03A4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0DB2C-3897-4FBB-A992-3E3408E1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C9C72-EE8D-4600-AD1D-1865B4B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11D97-F56D-40C4-9F19-C257C77C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4D8D5-926C-4761-9C2A-5D138DB1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4793D-E7A3-4D10-89F0-FB49E32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69D6C6-CD2C-4D7B-8366-A6851207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ECC8AF-C1A0-4D54-958D-CB21501F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EA4994-44B3-48B7-9B23-D1589019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277DF-220A-45B3-A590-8446B9DA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37F61A-FE24-45CB-84E1-6673D51B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37FC-A679-4BA1-8E3F-56FA2471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56584B-3C97-4F44-B248-313A3FBA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515AE3-5862-4823-BB48-6BC37F6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5B2731-7031-4B5D-8D3A-7083D6B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4CC816-6137-4B22-9077-35735D9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5A07DF-A8F5-42ED-A2C9-295DD70B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D917D3-31EF-42BE-8FD6-5A4F448A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388B7C-ED1E-4F83-B7E1-1836B01D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312FE-02C6-4B26-A362-9143D68E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4BDA1-50D9-451D-9B4B-5E6E0B59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87C41-54C9-4CD3-A934-C5A0D2DC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658-D106-4831-A2D7-24A01A54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3EB09-A4B4-4D3E-9F79-89D15A3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BB417-3AB5-4ECC-8DFE-156E984F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E4FA1-C25D-4105-BCD3-E6B725F0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8D119-F3E8-4848-96EC-0C05980B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01E1A-1F02-4234-BE03-BB635846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954EF-BE1B-4AA2-8CBA-9149ED9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67E2F-A235-41F2-BF00-DCE24B4D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7D179-D0DC-4F4E-B54C-596157B5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58B6B-F85D-45A9-AD4B-4717BCF7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D857D-2CEC-449D-8BAB-0D4CBB2B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A146-7D9B-46C5-BC98-5B5A3561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88D05-8C87-4744-9ACF-C1AE5B6D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E5058-30EE-4C07-A7DA-002C3521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76BEC-54E9-4CB9-A4B4-ED722223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CCF49-364D-43FF-8E80-95B7AB54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4AC81-D5F0-4D5B-88CE-8AB6F09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01FDB-92FC-4DB2-AA0E-D3C4848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C9C8D-FA84-4CC9-AE0C-59EE619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1D934-C591-49C4-9B29-6A0B09B9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325C7-F758-4D0C-98FD-133289EE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FE739-E99F-43F4-B65F-B29C6A0A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175D-1A9C-4911-8F65-8D5DE900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2E224-C8CF-4866-ADFE-54BCF991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E5758-7FFE-4013-9F8F-41D4BAF4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1C695-68D6-4A56-8D97-93CD500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552A8-BD97-4830-BDAD-47C329D9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6F060-936C-440B-A161-5165FF8F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ED776-70EC-44FF-83F8-BB8F65B0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F5C10-F521-4E49-A724-1EB941A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F0D4A-AF3D-478E-88CB-59243B9B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6B23E-F10A-456B-8AFE-23FB4DA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409736-8317-47D6-B647-AF3E4DA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0AC6-B962-451E-9CD7-55A56A4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40155-1A92-41CD-99FE-6B1EDD7D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17B55-7669-4114-A7F5-A0A831A5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B3690-4B1F-46AF-A312-A5A31AD6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1AFDD8-6549-48E5-A89D-174818EE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DABF4B-B193-4710-B9FA-018AE7D8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3B05E5-E445-463D-9429-2C7EC7C8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D8C76E-6EE3-4DC5-9FC7-CB17B998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9B9144-12C3-4048-9AAB-C1533030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23B43A-D9E2-4FCD-B56B-7FD574A7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620DE4-6348-46F3-ACD9-6695FF6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C23-1E84-4FC0-98B4-8E5FEF4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E6A9-6D8B-4D2C-B323-23AD17A6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4CDDD8-C43F-4807-BB53-6484905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B26D33-E5B5-42B8-8CA7-A52ECFE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EA7D9D-F809-408B-8EF5-4C174BF0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E90CC8-8615-4431-8B92-038B91A3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D723BC-80F4-459F-B40B-2E437CB8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B42716-E35A-4775-B53E-03456A46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6D6216-AEAA-4B85-BFC1-2526D8E0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1D5CFA-4A25-42C9-BAD6-1288731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2E8910-74AA-475F-8F0D-B1BB5FA0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BB8276-E0F3-4B60-87EB-25AE6AB7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87B8-900F-4BBC-978C-D241BDBD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C5C376-1D4E-4491-A61D-6A6FA070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B62CFD-213C-4840-B88C-0F2D98A6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B57B65-2EF9-4D1E-9359-5FF875C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5C96A5-43E9-47B5-9AAC-09703BA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4DB399-C86F-43B1-927B-A8C4DFAB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06D3E3-B13E-4085-8BD0-D4973E65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D488F6-A124-4832-B1C9-FEB9E5D7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9CF61-CDB4-4E1A-AFBD-7ADB170D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7F8155-DFAD-4A65-A708-2F8462A0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0B4E9-4932-40A5-8428-9A6FA039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06FB-4028-417F-8163-F756A22B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928B8-ECCE-4A0D-9C08-467C3D65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A1B50-BB5C-497F-99A5-BC80A52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F2297-9F0C-47BC-838D-7E75431D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18C78-79A4-4C69-887F-1F266BA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42CA1-2F37-46F2-A116-F8F9E198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1712C-C470-4DE6-B25B-047668A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DB5E0-5969-4A9B-83D4-7ECB45BE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AA2FF-248D-494F-B177-5D3635C6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CCC27-6174-4212-BE52-2E902702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61585-A75F-4011-AEB1-CF2D97D4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39AD-A0C8-4ABD-B503-14AB0344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E2F14-EF18-43EE-BE74-7EFDA1D7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14278-61B4-463E-BF8E-32A856C1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08C54-0970-4E4D-9B43-9A71A939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CB0BB-AD89-47F2-8319-2D11D3F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A17CE-116D-456E-89DF-598E8507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8A3A3-4E2F-4141-8ED1-3EE21D3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59BD6-AA71-449C-989B-1BD2B72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0C547-B123-4D33-9B3F-196D7B7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4FC76-51EA-470D-BE9A-90EE4B23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5C501-F354-47F0-89CA-5094690B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E405-3313-4CFB-8A9D-2566AEB4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132EC-8188-4302-AEA1-583EACCF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89055-54EC-4F54-96F2-94F9D54B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6D8E02-2282-42C0-8A1F-2452A684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0E132-7DB9-4895-8B10-1A5277CA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5D357-89FA-49A3-AE0A-7B192D00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0ADD2B-417A-4A6E-83AA-0B0D048E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C3AEE-9333-47AD-BBA4-032497A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F2573-DF3B-4D61-9D95-BDE4B2A0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95971-E104-42FF-ADFB-EE647F4B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21D14-AFB0-4FB6-8FA4-641F412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4D19-2BBB-4FBC-A598-F46AE590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D00AE-211E-43A1-BEA1-28F95D6D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0F3C7-E58A-4AE6-8122-0968D3EB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7801A-F2DC-470E-B580-DC1395AD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E1E76-76CC-4DC7-B4B7-DBDFF6F7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BC20DF-E897-4992-BE8A-3AFA72A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4FB8BD-F28C-4191-9FC6-DCB43691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55F584-447E-4A59-889C-61BBA11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A75A4-FEF8-464E-8743-3F81F30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392D2-7E14-4521-AEEE-A5B0CC4B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1116B-E6BD-4C5C-B899-89679C2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A8F5-8326-48ED-A704-983CFD3A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D72E9-2C6A-4292-9989-61B9FA3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BA4A0F-C9AA-4D8C-9AEA-E7F7A5A1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64779C-DAE9-4E34-BE19-27AE3DC2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D3D039-8398-420A-9302-86072E75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88E26D-5ADD-490D-AB1C-251C4A57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F8300-C644-461D-8790-4DEB0B7B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F83CF5-F8E8-4FFA-879B-6E62F37C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995D8-7BA2-48DB-8C74-305D936D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A2ADD3-F901-40A3-B150-342F6B5D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C87A5-C154-4231-B6BF-22919E18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647F-6B9D-43D2-9930-C7C88D5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35AE84-83BC-4AC4-A02B-A5A6B2FE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99E9C-E60B-43FF-8106-7140557B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3CA2D7-7ED3-4102-B13D-1AFDB252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6AC26F-5306-4253-9B6C-109C4AF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6E76E-8BA6-4C15-AAFF-AE9D6F0F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488DA4-7AF8-406C-B48D-672EDF2D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FDB21F-91DE-46A1-9178-2A6E30B5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D2262B-C80B-4F6A-B132-36240DA1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5B45C7-E121-434D-BE58-EDE923A2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F7710F-F1C3-4458-BF7B-E36DC909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AC3B-8F96-42B5-956E-117B87CD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4745D3-3BC3-4D97-A0B2-40039CFC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0CAE79-FF22-4DED-A5FE-B7161B86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B3AA5C-6464-48B2-9B4C-99214467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9C11F-B508-41AF-A502-28D0E49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244654-F676-450A-BDD7-2EE69EB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5C0A71-324E-474C-A101-35A6217D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50FFAA-9595-4D0E-95E7-860908E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7DF83D-52CF-4F66-8A25-2CC6941A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1EA02D-D9CE-4703-B030-A879DD8C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78B714-DFD8-4002-AD51-B2204423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CD75-4AC5-4C33-836C-4985862C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8726EC-476D-411A-B43E-1CF6F610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C88E09-D6E3-4E61-98B6-F7BE4DEE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73A6DA-D1A3-4051-8974-E179E46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22818B-B540-4B67-8021-A08AB1B1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D853E8-CA27-4B25-8C3B-52E762BD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742DC1-58FD-43BF-A2A0-4D05B90B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42B2CA-E8C9-4DA8-96E4-8E875F1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B7466F-7FA2-4861-BEF8-B727151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471B35-A536-46B5-9F85-DD4A2F5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4B3038-5CBC-4987-93B7-B8EBA292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C57-E98A-4FBF-AAEF-6A0E42B4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9B9A-5BDE-4DBA-A0A7-3E2832E2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51C1DD-D60F-4830-9B08-60BF11A9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F8E6-C00E-4A9A-93BE-05604D7E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386F-2FA1-484B-BCB1-055F6EF4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6B97-CA64-4A5D-A2E3-A8014E5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302A-898B-499E-B9D3-1B837DCC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2504-0818-4621-9804-BCF8D72B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23E8-CAD4-416D-909E-070A5BB2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7950-16B8-4663-8E53-CA037014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94DB-B220-4F5E-8CCC-E3E2E78E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F3235-DDD8-45BD-BB01-35555ACB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C0E-EAEE-4369-B44D-853F163C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108A-AADA-4AC5-88BE-A79151A3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6CAC-C6AB-4101-AC96-90CA3ABF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C5FB-1BE6-464E-95DF-4781662E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A59B-376E-483E-90D9-B30A22B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BD7D-6E60-4BD5-BE68-A1A7132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C03D-14FE-4584-A744-32075FD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B40DF-3071-4149-9149-77338B1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AA89-884C-4070-8684-9F4EEBCF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CC05-0828-4EA4-ACFE-F40CF1AB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75B5-907E-4EE1-BEB0-BE2FA1FB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656-CC05-4CDC-94A4-5DD33369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D55B-3381-4B29-8D10-7189C80D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7D24F-036F-478F-BA96-1BE89F63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F15C8-5032-45C7-812F-C90EC738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3F45-2A6E-409C-B58B-262CF97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34C0-D197-41CF-AE6C-6FCA9520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D04D8-89D3-45F9-8822-A3C6406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7FF2-1038-4E05-A466-D2F75E4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48733-0E86-4762-9869-61B96E4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D30F-DE2B-4EF4-97DE-3DEA4394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A644-2064-4185-ADFA-AD92AE65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E93-C43D-49C4-803C-6CCE4899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D3227-72BF-456E-B20A-07CE8632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C98E-5AB2-4FFB-B0E1-771D1248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4AD5-7DA7-485D-A336-360FFFC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9F20A-82FB-4142-A168-FCFC9A51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E5361-D718-4E8D-9A43-B3E47AE9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5F948-8E93-42D6-AEF2-59ABE66C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85AE-D42C-4582-B329-C54BE9DB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A2439-8704-43E9-AE4E-B6DBAFB0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3215-3105-4E6B-8CE3-D30F23D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C9B2-C7CA-4F90-9C1E-5F3A2EE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F5B-6868-41A3-A054-18D57D4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2EC73-A327-4EE5-9BB5-C9B1135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95B8-D38D-4136-9847-5B1A0F56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E377-2F3E-4287-AA42-5ED751FC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E722-1CC9-48D1-AD80-E70DA2BD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6F2F-2AED-4EB7-B0FA-6EF08D53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1C70-5328-4F0E-8A08-9D00A6E4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FDB8-E76E-4FDF-8F12-1CB338B9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E8962-1D5B-42DF-8079-6C0B201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252B-B8FE-4E93-B5C1-E419E031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A77D-B6A1-4E2A-BD80-69628927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FC7-92CB-4EA7-802A-C1ADA45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A8091-6250-42FF-A76B-44F2A1C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A7EC3-F2F8-4E78-B11B-D8073F1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C6B56-7825-4A58-8B3D-11924EB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EC435-8741-4EE3-BAE7-D3B34060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742A-C334-4EF4-BBB4-ACF2733A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630D-56B8-459E-8FCF-7E230E82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0F251-50D1-4956-BE04-B3023D8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2A28-D63D-430B-A3D7-B1C6ED0E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A360-4229-4A60-947D-2E2B4DC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B40A0-0A87-4C10-84C9-314B62AA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243-294B-47F9-BD54-6CCC510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6479C-529F-42B2-8D0B-F445DA65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9421-772C-4CBE-A093-DE6E457A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49FC2-53FE-4FEE-B822-5EDB5406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B6B76-FE78-4700-AA0C-E4922046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4DEF-08B7-47CF-B806-1071D7F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CD5D9-495C-4E59-AF81-BAE1D219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4B0F-CCD8-4AB2-97D1-BE6F3B27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7703E-A3D7-4931-864C-053B27AA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F8C06-B842-4024-B103-AD7465F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5505B-2B60-4E59-89F0-E06E24F8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5C09-AA90-4E9D-B9DF-58227B4C52A3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1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C1C-E284-4BB8-AF34-2A763BAAEAFC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9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A38-E4FB-4C17-BCEC-4C8872DBA7E3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0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05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4988-5E72-4EF7-BC9F-786F77671089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sldNum" idx="3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011F-CD07-4B96-87D6-9663A9825F86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3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9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92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B9CF-7DCE-4A1E-9F59-64C29CBBB08E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3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37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C96E-EB33-4102-974B-E9FB00519731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8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83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BED-D29F-43AF-9790-A51B820CC2D8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E65C-1351-4B8E-856C-708C8862ED3F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5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31DC-86D0-4D6F-91F4-D0B71A62C053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ftr" idx="5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26C9-B69B-4A60-AB95-238B91C6419F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42A-08F7-4795-92C3-244F184A3936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8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9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60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5C0-8C91-42BC-AC7D-7C68E4C07948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35C-5197-40F1-A900-BBED247B8966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E33E-0751-4192-B8B1-72D18E047E2E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C353-EC57-4F19-8C40-B67D54996153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7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7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7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8503-6BA0-4A40-8A3C-893359DBDCD0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2F1A-4EC2-427E-AD3F-86744459F6A3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CDBA-B45D-4107-A1ED-ABCB35F96654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7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13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4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14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FCBC-B824-4167-A756-8961786559B3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FD73-5A28-4A57-85F3-470841F94A22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F832-EE55-4072-A2F4-AC24AB9258AF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9BBF-A69A-43B9-9114-018786AF78D0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E97E-406D-408E-B7D2-750499C8BB56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FAEA-1069-4CF2-B7FE-DB9E4B0BA2C7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4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jpeg"/><Relationship Id="rId3" Type="http://schemas.openxmlformats.org/officeDocument/2006/relationships/image" Target="../media/image17.jpeg"/><Relationship Id="rId4" Type="http://schemas.openxmlformats.org/officeDocument/2006/relationships/image" Target="../media/image2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19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7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3263c"/>
                </a:solidFill>
                <a:latin typeface="Lucida Sans Unicode"/>
              </a:rPr>
              <a:t>Australian Marsupi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25" name="Picture 3" descr="0GVZCA6AD1F8CAZTC5O4CAWMAJMDCASY3BRACAA63KNNCAB18R01CAM8ZVF5CA3ICSN1CAKA39QUCAXTHBU4CAX50SGKCAGHWS6ACAH82GCXCABLA8C2CAKFU9SQCA8C04RRCASC7F31CACPG96WCAYVXNJH.jpg"/>
          <p:cNvPicPr/>
          <p:nvPr/>
        </p:nvPicPr>
        <p:blipFill>
          <a:blip r:embed="rId2"/>
          <a:stretch/>
        </p:blipFill>
        <p:spPr>
          <a:xfrm>
            <a:off x="0" y="0"/>
            <a:ext cx="2286000" cy="24573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5Z3XCA2KBA7GCA77MKM9CAMFOK96CAU1LWW4CAEJN495CAXC0X4UCAFINHKOCAPW5LNUCAQ1VTI7CA3YB7ENCA0L6728CACJMLCDCAATH6ALCABHC9HSCAVMBNHKCAC6KZZLCAXIC3BMCA23390QCAZADO43.jpg"/>
          <p:cNvPicPr/>
          <p:nvPr/>
        </p:nvPicPr>
        <p:blipFill>
          <a:blip r:embed="rId3"/>
          <a:stretch/>
        </p:blipFill>
        <p:spPr>
          <a:xfrm>
            <a:off x="2357280" y="0"/>
            <a:ext cx="2095560" cy="2428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5" descr="9OL9CAX3WTEBCAOUXWZOCATH6048CAHZCCE9CAB1DMAECABAB1AGCA3JAAVTCAH55Y26CAPC1FSGCA3I5QRRCARCQ7EXCA7I57EJCA6LXHBACA13ZOJXCAGF8175CAVYKRNFCAS6AYW4CAXQP92ICAMMVH4P.jpg"/>
          <p:cNvPicPr/>
          <p:nvPr/>
        </p:nvPicPr>
        <p:blipFill>
          <a:blip r:embed="rId4"/>
          <a:stretch/>
        </p:blipFill>
        <p:spPr>
          <a:xfrm>
            <a:off x="4500720" y="0"/>
            <a:ext cx="1812600" cy="24289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6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5"/>
          <a:stretch/>
        </p:blipFill>
        <p:spPr>
          <a:xfrm>
            <a:off x="6354720" y="0"/>
            <a:ext cx="2789280" cy="24289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7" descr="2L8PCAL7JANCCAQZGRFOCA142FFECA4ROJTJCALA20DVCACN811OCAFKM38LCA0QX7WSCA8VHT0ACASXFJ2BCA9DUSC0CA2Q6XILCAWMNT3XCA7CXF05CA4TMCK2CAIH1T0CCA05PJVJCA99HUQICA2YFXW8.jpg"/>
          <p:cNvPicPr/>
          <p:nvPr/>
        </p:nvPicPr>
        <p:blipFill>
          <a:blip r:embed="rId6"/>
          <a:stretch/>
        </p:blipFill>
        <p:spPr>
          <a:xfrm>
            <a:off x="0" y="4964040"/>
            <a:ext cx="2357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1" descr="MNV7CA20UBXOCANCL6IFCAV974NXCA154FT6CAFI620UCAKOYJ93CAZDOS4ECANLXMAMCA4W4NHKCARKVZZGCAR9E6DDCA646142CA3NB3BUCAQTV81KCAPX0YEZCASZY7YUCA1PDM88CAB5DUYDCADD1XFQ.jpg"/>
          <p:cNvPicPr/>
          <p:nvPr/>
        </p:nvPicPr>
        <p:blipFill>
          <a:blip r:embed="rId1"/>
          <a:stretch/>
        </p:blipFill>
        <p:spPr>
          <a:xfrm>
            <a:off x="0" y="3814920"/>
            <a:ext cx="3071880" cy="30430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5Z3XCA2KBA7GCA77MKM9CAMFOK96CAU1LWW4CAEJN495CAXC0X4UCAFINHKOCAPW5LNUCAQ1VTI7CA3YB7ENCA0L6728CACJMLCDCAATH6ALCABHC9HSCAVMBNHKCAC6KZZLCAXIC3BMCA23390QCAZADO43.jpg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3643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3429000" y="5000760"/>
            <a:ext cx="2274840" cy="18572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DV21CA4LG632CAFVM664CAHK8JTHCAU0J53HCAZX0SYYCAJZI2SDCAGTLT48CANNZTH3CAEY5C4SCARJQHQVCAZ81P1DCAWKGZ8TCACZ9UJNCAB59YG3CAGEBH5QCAGECV02CA4A8PKMCA4AK3IFCA24XY6K.jpg"/>
          <p:cNvPicPr/>
          <p:nvPr/>
        </p:nvPicPr>
        <p:blipFill>
          <a:blip r:embed="rId4"/>
          <a:stretch/>
        </p:blipFill>
        <p:spPr>
          <a:xfrm>
            <a:off x="3571920" y="3500280"/>
            <a:ext cx="2071800" cy="13971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5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5"/>
          <a:stretch/>
        </p:blipFill>
        <p:spPr>
          <a:xfrm>
            <a:off x="0" y="0"/>
            <a:ext cx="3773520" cy="3286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6" descr="2OPECA1JN9MTCAC0ISQ4CAK623B2CAH8GMH9CAQNMZFICAS6UULZCAGRVY9OCAO3VVKXCAUN2LCVCAJ8DTTWCACP9ZR9CA2QXCBPCAP884BQCAMR2CZKCAWSRP47CAXXAWHFCA14SSL9CASDZQ50CACRMA19.jpg"/>
          <p:cNvPicPr/>
          <p:nvPr/>
        </p:nvPicPr>
        <p:blipFill>
          <a:blip r:embed="rId6"/>
          <a:stretch/>
        </p:blipFill>
        <p:spPr>
          <a:xfrm>
            <a:off x="4143240" y="214200"/>
            <a:ext cx="1343160" cy="9050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8" descr="2OPECA1JN9MTCAC0ISQ4CAK623B2CAH8GMH9CAQNMZFICAS6UULZCAGRVY9OCAO3VVKXCAUN2LCVCAJ8DTTWCACP9ZR9CA2QXCBPCAP884BQCAMR2CZKCAWSRP47CAXXAWHFCA14SSL9CASDZQ50CACRMA19.jpg"/>
          <p:cNvPicPr/>
          <p:nvPr/>
        </p:nvPicPr>
        <p:blipFill>
          <a:blip r:embed="rId7"/>
          <a:stretch/>
        </p:blipFill>
        <p:spPr>
          <a:xfrm>
            <a:off x="4143240" y="2428920"/>
            <a:ext cx="1343160" cy="9046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0" descr="GQVYCA6MLQSACA5CM54ACANTR11VCAU95RTCCAWUOM4LCAC8BV4BCAWKHZ7MCAJFXSD7CAPQBNKDCA13SUN9CA2BUWCGCA540LA8CALJF80LCAC6YQF1CAMTKV48CAYP85SRCALZOCW0CADGWQ3SCAFLBLAZ.jpg"/>
          <p:cNvPicPr/>
          <p:nvPr/>
        </p:nvPicPr>
        <p:blipFill>
          <a:blip r:embed="rId8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3" descr="IO5SCAIU8TPLCA79QA5TCAXZCGSYCA44NQEQCAW2AQL0CA0U68LCCA802Q3OCAYOFTR2CA4UQNDYCAW0SY2VCAMAGJ6RCAXP33PYCAOQV2M5CANIZ5EWCARB74NYCA3K0VATCADK1SRPCA3JV0XYCAZ62LRY.jpg"/>
          <p:cNvPicPr/>
          <p:nvPr/>
        </p:nvPicPr>
        <p:blipFill>
          <a:blip r:embed="rId9"/>
          <a:stretch/>
        </p:blipFill>
        <p:spPr>
          <a:xfrm>
            <a:off x="4143240" y="1357200"/>
            <a:ext cx="13575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64653"/>
                </a:solidFill>
                <a:latin typeface="Bookman Old Style"/>
              </a:rPr>
              <a:t>Australian Marsupia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he predominant Australian native mammals are marsupial mammal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hese mammals have evolved strategies that equip them for successful reproduction in Australian condi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41" name="Picture 3" descr="7X1NCAQD2MZ2CA8WYZE3CA632LJOCAWGX6BYCAJ7T709CAS2FQPUCA7EFRTACACYKGP1CAWJP1SPCA12XCAJCASLBUPVCA3BNE0ICAH8RB81CAZPL9OYCA9CUY68CAYA0JWGCASMHUUJCAJT8RE7CAD61RVZ.jpg"/>
          <p:cNvPicPr/>
          <p:nvPr/>
        </p:nvPicPr>
        <p:blipFill>
          <a:blip r:embed="rId1"/>
          <a:stretch/>
        </p:blipFill>
        <p:spPr>
          <a:xfrm>
            <a:off x="2928960" y="4357800"/>
            <a:ext cx="2876400" cy="22431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2"/>
          <a:stretch/>
        </p:blipFill>
        <p:spPr>
          <a:xfrm>
            <a:off x="214200" y="4419720"/>
            <a:ext cx="2428920" cy="21142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5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6338880" y="4429080"/>
            <a:ext cx="25956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rsupial embryos develop in the uterus for a very short period only and are born at a very immature stage of develop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newborn climbs into its mother’s pouch where it attaches to a nipple and continues to development over an extended peri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45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3" descr="4K25CAYTHI15CA8UYYJ3CA0HTRNCCAFL1LH1CA14SBPNCAS3VWPICARSP54ICA1CMRZ3CA1XUT8NCAGKC1FQCAJ94Q4MCAFCM63OCAHUEBIXCAJ1DFF6CAGJHIJWCACT6UDFCA96VSYJCAIHITD3CA2763N0.jpg"/>
          <p:cNvPicPr/>
          <p:nvPr/>
        </p:nvPicPr>
        <p:blipFill>
          <a:blip r:embed="rId2"/>
          <a:stretch/>
        </p:blipFill>
        <p:spPr>
          <a:xfrm>
            <a:off x="214200" y="4738680"/>
            <a:ext cx="2571840" cy="19242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6W57CAYEW659CA03POPHCAA8WF7LCA2WIUJYCA2GISVDCAQPJYS5CA7ZO8RQCASFB3UZCA47EZHVCAXZUEL6CAA4NVTWCAXGM9JRCAH34K7GCAL3PDF3CA1EI23GCA1BCSP1CANZE5NUCA9KMPO5CA41QCU1.jpg"/>
          <p:cNvPicPr/>
          <p:nvPr/>
        </p:nvPicPr>
        <p:blipFill>
          <a:blip r:embed="rId3"/>
          <a:stretch/>
        </p:blipFill>
        <p:spPr>
          <a:xfrm>
            <a:off x="3286080" y="4714920"/>
            <a:ext cx="2500200" cy="18460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5" descr="DV21CA4LG632CAFVM664CAHK8JTHCAU0J53HCAZX0SYYCAJZI2SDCAGTLT48CANNZTH3CAEY5C4SCARJQHQVCAZ81P1DCAWKGZ8TCACZ9UJNCAB59YG3CAGEBH5QCAGECV02CA4A8PKMCA4AK3IFCA24XY6K.jpg"/>
          <p:cNvPicPr/>
          <p:nvPr/>
        </p:nvPicPr>
        <p:blipFill>
          <a:blip r:embed="rId4"/>
          <a:stretch/>
        </p:blipFill>
        <p:spPr>
          <a:xfrm>
            <a:off x="6072120" y="4857840"/>
            <a:ext cx="26431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rsupials use a ‘stay-on-the-nipple’ approach whereas placental mammals use a ‘stay-in-the-uterus-for-longer’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All mammals (monotreme, marsupial, and placental) produce milk for the nutrition of their you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0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3" descr="IIFHCAP1C0YFCAED22TKCA81EDNRCA9D2T5OCAGKOIPGCAC039ASCAJ5KAASCAQ4HFLFCAJRG16VCAR2W1SQCAEPZGT3CAG8GSQ3CAB0RU5UCAWX8IFPCAI3VSSPCAXYCDV0CAPI9Y4ACAAEJZPVCA8PNCNA.jpg"/>
          <p:cNvPicPr/>
          <p:nvPr/>
        </p:nvPicPr>
        <p:blipFill>
          <a:blip r:embed="rId2"/>
          <a:stretch/>
        </p:blipFill>
        <p:spPr>
          <a:xfrm>
            <a:off x="5214960" y="4572000"/>
            <a:ext cx="1571760" cy="20685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4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285840" y="478008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5" descr="W6PLCACDD81JCA8A9O8SCAMFJX7KCA3B7RYFCA39PEW4CAP4HFX4CAGF1PUVCAI5P7URCA2TH0BSCAUYAXV8CA0MN6AOCAW4VGIHCAQ48J9ACAQXDHUGCADKPW1DCAAFRVR5CAKKXXJXCAAWAL6HCACTSE3D.jpg"/>
          <p:cNvPicPr/>
          <p:nvPr/>
        </p:nvPicPr>
        <p:blipFill>
          <a:blip r:embed="rId4"/>
          <a:stretch/>
        </p:blipFill>
        <p:spPr>
          <a:xfrm>
            <a:off x="7143840" y="4232160"/>
            <a:ext cx="1724040" cy="24066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6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5"/>
          <a:stretch/>
        </p:blipFill>
        <p:spPr>
          <a:xfrm>
            <a:off x="2786040" y="4740120"/>
            <a:ext cx="21430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57120" y="3499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Kangaroos and wallabies can also suspend embryonic develop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mediately after giving birth and having a young in the pouch, a female kangaroo conceives again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6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3" descr="W6PLCACDD81JCA8A9O8SCAMFJX7KCA3B7RYFCA39PEW4CAP4HFX4CAGF1PUVCAI5P7URCA2TH0BSCAUYAXV8CA0MN6AOCAW4VGIHCAQ48J9ACAQXDHUGCADKPW1DCAAFRVR5CAKKXXJXCAAWAL6HCACTSE3D.jpg"/>
          <p:cNvPicPr/>
          <p:nvPr/>
        </p:nvPicPr>
        <p:blipFill>
          <a:blip r:embed="rId2"/>
          <a:stretch/>
        </p:blipFill>
        <p:spPr>
          <a:xfrm>
            <a:off x="428760" y="1216080"/>
            <a:ext cx="1428480" cy="19936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4" descr="2OPECA1JN9MTCAC0ISQ4CAK623B2CAH8GMH9CAQNMZFICAS6UULZCAGRVY9OCAO3VVKXCAUN2LCVCAJ8DTTWCACP9ZR9CA2QXCBPCAP884BQCAMR2CZKCAWSRP47CAXXAWHFCA14SSL9CASDZQ50CACRMA19.jpg"/>
          <p:cNvPicPr/>
          <p:nvPr/>
        </p:nvPicPr>
        <p:blipFill>
          <a:blip r:embed="rId3"/>
          <a:stretch/>
        </p:blipFill>
        <p:spPr>
          <a:xfrm>
            <a:off x="2143080" y="1285920"/>
            <a:ext cx="2827440" cy="190512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" descr="NSKXCAKCHEL6CAR6M0T3CALBU2SCCAVNQUH8CA061QHVCAKEIB3UCAXRIA77CAZUZUTSCASKOHNACAHDXWM4CAPFZEA5CAA84DWJCAREKWSGCABMV96BCAKRNF48CAUXVEONCA4ZCTJ0CA3SXZ03CAJ6RJIA.jpg"/>
          <p:cNvPicPr/>
          <p:nvPr/>
        </p:nvPicPr>
        <p:blipFill>
          <a:blip r:embed="rId4"/>
          <a:stretch/>
        </p:blipFill>
        <p:spPr>
          <a:xfrm>
            <a:off x="5143680" y="1214280"/>
            <a:ext cx="1550880" cy="20574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6" descr="POF2CAL7K3ESCAIK11IFCATS2Q2UCAYFICZPCAOBZ83NCAVBKXKRCAJKDDBSCAJQ7A9JCAY7C5DCCAN4EXX2CAJ6OKDVCA70LUGLCAPWBIN0CAE06PM7CAU3YXXECAH8TO03CA2IET2UCAUCPXVFCA2WYK0F.jpg"/>
          <p:cNvPicPr/>
          <p:nvPr/>
        </p:nvPicPr>
        <p:blipFill>
          <a:blip r:embed="rId5"/>
          <a:stretch/>
        </p:blipFill>
        <p:spPr>
          <a:xfrm>
            <a:off x="6715080" y="1643040"/>
            <a:ext cx="22845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is young’s development is suspended while the other joey is still feeding on the nipples in the mother’s pou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Reproduction in kangaroos and wallabies is influenced by environmental condi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62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3" descr="4K25CAYTHI15CA8UYYJ3CA0HTRNCCAFL1LH1CA14SBPNCAS3VWPICARSP54ICA1CMRZ3CA1XUT8NCAGKC1FQCAJ94Q4MCAFCM63OCAHUEBIXCAJ1DFF6CAGJHIJWCACT6UDFCA96VSYJCAIHITD3CA2763N0.jpg"/>
          <p:cNvPicPr/>
          <p:nvPr/>
        </p:nvPicPr>
        <p:blipFill>
          <a:blip r:embed="rId2"/>
          <a:stretch/>
        </p:blipFill>
        <p:spPr>
          <a:xfrm>
            <a:off x="642960" y="3147840"/>
            <a:ext cx="2214720" cy="165744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4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3143160" y="3187800"/>
            <a:ext cx="1928880" cy="15746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5" descr="UK30CAV69FWHCARSW1EBCAWNAEWDCAVCHXA8CAQKC89VCAY05DTLCAYEELZ6CAA3A1OGCA7MH4ILCAFVZ1FCCA1JFYH0CAYRN2MECA08M5NGCAJC8MYTCAN5UV1WCAL1VCDRCA25FF9HCAW0500MCAZJMO20.jpg"/>
          <p:cNvPicPr/>
          <p:nvPr/>
        </p:nvPicPr>
        <p:blipFill>
          <a:blip r:embed="rId4"/>
          <a:stretch/>
        </p:blipFill>
        <p:spPr>
          <a:xfrm>
            <a:off x="5357880" y="3236760"/>
            <a:ext cx="192888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0:32:17Z</dcterms:created>
  <dc:creator>Lyn Clarkson</dc:creator>
  <dc:description/>
  <dc:language>en-US</dc:language>
  <cp:lastModifiedBy>Lyn Clarkson</cp:lastModifiedBy>
  <dcterms:modified xsi:type="dcterms:W3CDTF">2007-09-12T00:05:32Z</dcterms:modified>
  <cp:revision>7</cp:revision>
  <dc:subject/>
  <dc:title>Reproductive Strategies</dc:title>
</cp:coreProperties>
</file>